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D09E4-A53E-4C26-98EF-311FDB821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64AD-E502-49FD-955B-4360584AC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E8E6D-C15B-4226-9DCD-84D674805F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AC3B0-A12D-4BFA-BFFE-ED0FDC3D3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3A58-D610-46D1-9852-9CB664A82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40790-AC70-4E08-9D0D-09924C31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B555F-FC7C-4C9D-806E-288294244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D0841-0CCB-44AB-9970-2145B930D8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450AC-C9A4-458F-B274-64910FFAF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6B3C9-DA91-4F1F-83A8-EB7EAA5605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DA7D2-8AEA-41E1-883E-324C6EEDE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08F-05CC-4952-86D1-009F7D906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D94F-5A89-47A8-89AA-006190465DC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mfc63.ru/" TargetMode="External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school.tgl.net.ru:91/Inquiry/InquiryNumberInput" TargetMode="External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360"/>
            <a:ext cx="7772400" cy="278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Внедрение е-услуг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в сфере образования </a:t>
            </a:r>
            <a:br>
              <a:rPr sz="4800"/>
            </a:br>
            <a:r>
              <a:rPr b="1" lang="ru-RU" sz="4800" spc="-1" strike="noStrike">
                <a:solidFill>
                  <a:srgbClr val="002060"/>
                </a:solidFill>
                <a:latin typeface="Calibri"/>
              </a:rPr>
              <a:t>в городском округе Тольятти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50560" y="3428640"/>
            <a:ext cx="8569080" cy="242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илотный проект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«Создание типовых решений для предоставления государственных и муниципальных услуг органами исполнительной власти субъектов Российской Федерации и органами местного самоуправления в электронном виде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010-2011 </a:t>
            </a:r>
            <a:r>
              <a:rPr b="1" lang="en-US" sz="24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гг.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счет и отображение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зиции в очере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динамику позиции в очереди (продвижение вперед, откат назад) влия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изменения сведений об очередниках*, вносимые в АИС при обращении родителей в МФЦ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зменение предпочтений по району расположения д/с, возрастной группе, специализации группы и пр.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счет и отображение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зиции в очере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456840" y="1600200"/>
            <a:ext cx="843588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динамику позиции в очереди (продвижение вперед, откат назад) влия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ление неактивных заявок* (перевод в статус активных заявок, участвующих в распределении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72880" indent="-2286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Неактивная заявка: место в д/с предоставлено → родители не объявились → право на место в д/с утрачено → заявка «заморожена» (т.е. не учитывается в числе претендентов и не участвует в распределении мест до подачи родителями заявления в департамент образования о восстановлении в очереди)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счет и отображение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зиции в очере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На динамику позиции в очереди (продвижение вперед, откат назад) влияю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сстановление в числе очередников  (с прежней датой регистрации) тех, кто по итогам распределения мест был направлен на постоянное место в д/с, но отказался от выделенного места (или не допущен по медицинским показаниям)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Предъявление заявителям доп. информации о заявках, которые могут повлиять на позицию в очереди (пример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324000" y="1628640"/>
          <a:ext cx="8569080" cy="4869000"/>
        </p:xfrm>
        <a:graphic>
          <a:graphicData uri="http://schemas.openxmlformats.org/drawingml/2006/table">
            <a:tbl>
              <a:tblPr/>
              <a:tblGrid>
                <a:gridCol w="1714320"/>
                <a:gridCol w="1712880"/>
                <a:gridCol w="1714680"/>
                <a:gridCol w="1712880"/>
                <a:gridCol w="1714320"/>
              </a:tblGrid>
              <a:tr h="2087640"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Возрастная групп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неактивных заяво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чел., направленных на постоянное место, ожидающих согласования (допуск) на зачисление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Количество нерассмотренных заявок (поступивших через Интернет,  но еще не подтвержденных документаль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Общее количество заявок, влияющих на позицию в очеред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628560"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 мес. - 1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920"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г. - 2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8920"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г. - 3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9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560"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г. - 4 г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1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7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8920"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г. - 5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6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6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358560"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л. - 6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4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358920"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л. - 8 л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8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7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38880" rIns="38880" tIns="19440" bIns="1944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1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8880" marR="3888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Содержимое 4" descr=""/>
          <p:cNvPicPr/>
          <p:nvPr/>
        </p:nvPicPr>
        <p:blipFill>
          <a:blip r:embed="rId1"/>
          <a:stretch/>
        </p:blipFill>
        <p:spPr>
          <a:xfrm>
            <a:off x="12600" y="139680"/>
            <a:ext cx="9082080" cy="648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ts val="4997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овые возможности для организаторов процесса учета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341000"/>
            <a:ext cx="8229600" cy="530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птимизация учета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сутствие дублей учетных записей очередни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тображение сведений БД в режиме реального времен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инимизация ошибок оператор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Актуальность сведений о составе очереди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 момент запрос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без предварительного свода и сверки списк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разрезе территорий, возрастов и т.д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овые возможности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Возможность подачи электронной заявки (более ранняя дата регистрации – ближе место в очереди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«Единое окно» для очередников (постановка в очередь, корректировка сведений, информирование – через </a:t>
            </a:r>
            <a:r>
              <a:rPr b="0" lang="ru-RU" sz="3200" spc="-1" strike="noStrike" u="sng">
                <a:solidFill>
                  <a:srgbClr val="e36c09"/>
                </a:solidFill>
                <a:uFillTx/>
                <a:latin typeface="Calibri"/>
                <a:hlinkClick r:id="rId1"/>
              </a:rPr>
              <a:t>МФЦ</a:t>
            </a: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2-часовой режим работы МФЦ (6 дней в неделю), более 14 окон, электронная очередь – максимальное удобство для гражда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e36c09"/>
                </a:solidFill>
                <a:uFillTx/>
                <a:latin typeface="Calibri"/>
                <a:hlinkClick r:id="rId1"/>
              </a:rPr>
              <a:t>Мониторинг состояния оказания услуги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текущий статус заявк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позиция в очеред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инамика состава очереди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воевременность учета потребностей заявителе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11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Общественный контроль движения очеред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овые возможности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для граждан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Текущие задачи,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находящиеся в стадии решения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" name="Содержимое 3" descr=""/>
          <p:cNvPicPr/>
          <p:nvPr/>
        </p:nvPicPr>
        <p:blipFill>
          <a:blip r:embed="rId1"/>
          <a:stretch/>
        </p:blipFill>
        <p:spPr>
          <a:xfrm>
            <a:off x="-249120" y="1335240"/>
            <a:ext cx="964224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Контакты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5" name="Содержимое 3" descr=""/>
          <p:cNvPicPr/>
          <p:nvPr/>
        </p:nvPicPr>
        <p:blipFill>
          <a:blip r:embed="rId1"/>
          <a:stretch/>
        </p:blipFill>
        <p:spPr>
          <a:xfrm>
            <a:off x="407880" y="1268280"/>
            <a:ext cx="8291520" cy="532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Содержимое 3" descr=""/>
          <p:cNvPicPr/>
          <p:nvPr/>
        </p:nvPicPr>
        <p:blipFill>
          <a:blip r:embed="rId1"/>
          <a:stretch/>
        </p:blipFill>
        <p:spPr>
          <a:xfrm>
            <a:off x="92160" y="274680"/>
            <a:ext cx="8893080" cy="650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Как найти е-услуги на Портале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5" name="Содержимое 3" descr=""/>
          <p:cNvPicPr/>
          <p:nvPr/>
        </p:nvPicPr>
        <p:blipFill>
          <a:blip r:embed="rId1"/>
          <a:stretch/>
        </p:blipFill>
        <p:spPr>
          <a:xfrm>
            <a:off x="347760" y="1133640"/>
            <a:ext cx="8394480" cy="566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142920" y="0"/>
            <a:ext cx="104108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1125360"/>
            <a:ext cx="9144000" cy="42926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дробнее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об опыте внедрения услуги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«Прием заявлений, постановка на учет и зачисление в дошкольное учреждение»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бщие принципы организации учета претендентов на получение места в детском саду в г.о. Тольят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Единая очередь формируется с учетом: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Возрастной категори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Уровня здоровья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Наличия льготы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Calibri"/>
              </a:rPr>
              <a:t>Даты регистрации в очереди*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Основной критерий расчета позиции в очереди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71280" y="1598400"/>
            <a:ext cx="8964720" cy="5143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Дополнительно учитываются предпочтения (пожелания) родителей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еречень д/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Режим пребывания в д/с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Дата (учебный год) получения путевки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пособы информирования о предоставлении мест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62856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Согласие на получе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9072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места </a:t>
            </a: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других д/с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лучае отсутствия мест в предпочитаемых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9072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 общеразвивающей группе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лучае отсутствия места в специализированной (при наличии показаний ПМПК)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990720" indent="-228600"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временного места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 случае отсутствия постоянного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Calibri"/>
              </a:rPr>
              <a:t>Общие принципы организации учета претендентов на получение места в детском саду в г.о. Тольятти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счет и отображение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зиции в очере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иция ребенка в очереди зависит от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озрастной групп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наличия льготы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района расположения предпочитаемых садов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собых возможностей здоровья (специализации группы),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ограничений перечня садов* для поиска мест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259200" indent="-217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скать/не искать место в ближайших к предпочитаемым садам: </a:t>
            </a:r>
            <a:r>
              <a:rPr b="0" i="1" lang="ru-RU" sz="2400" spc="-1" strike="noStrike">
                <a:solidFill>
                  <a:srgbClr val="000000"/>
                </a:solidFill>
                <a:latin typeface="Calibri"/>
              </a:rPr>
              <a:t>Да/Нет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Расчет и отображение </a:t>
            </a:r>
            <a:br>
              <a:rPr sz="4400"/>
            </a:b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позиции в очереди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Позиция в очереди рассчитывается и обновляется  автоматически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ежесуточно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в ночное врем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0:27:21Z</dcterms:created>
  <dc:creator>pinskaya</dc:creator>
  <dc:description/>
  <dc:language>en-US</dc:language>
  <cp:lastModifiedBy>kokorin</cp:lastModifiedBy>
  <dcterms:modified xsi:type="dcterms:W3CDTF">2011-08-19T10:37:59Z</dcterms:modified>
  <cp:revision>154</cp:revision>
  <dc:subject/>
  <dc:title>Слайд 1</dc:title>
</cp:coreProperties>
</file>